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Vangelis%20-%20Apocalypse%20des%20Animaux.wav" ContentType="audio/x-wav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61C-9154-4A6F-BFD2-D91E1F1C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FB9-9134-4FB8-A2DC-54240F1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D4C-F9EA-4831-A08E-E94B899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0DD-3F5B-4647-8BE7-290124D0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57C-2214-4BBD-95DF-4829201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4310-E95F-449B-896D-EDB9F8D4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EB2-A0BE-4564-8A18-7CA8129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ECA3-6D55-40B1-9C26-693BF90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71D-37EC-4D78-AB47-618B608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D272-1400-4AFB-B4E4-CA8B794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530-A988-491F-B043-30A599F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722-F851-48C9-9281-5C7FAB19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F04-6B3D-495F-A0D2-B2D135F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0C2-57A1-4B0F-A3F9-0C49738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A55C-721D-4131-B064-D5253FD6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A34D-1563-40EB-B954-33017329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8C9E-AAA6-41A4-8E15-4D64FB91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630-53F2-4801-B9A9-3B772EC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707-890D-4229-BD69-099337B7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69E-7967-44E4-9323-B5C0516C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386-8F07-430E-85C7-7B04DE1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29D-8C3A-4CB5-AC5F-178601F0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F52-9123-4845-AEBB-9CBA75E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90D-BF7C-4605-8FFB-5E1BCC0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6d1e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CE3-7A17-45DB-90D5-9CB533573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6d1e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D90F-12D8-4633-9760-F28E1B1D7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Vangelis%20-%20Apocalypse%20des%20Animaux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50000">
              <a:srgbClr val="3366ff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71640" y="1484280"/>
            <a:ext cx="6067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Lucida Handwriting"/>
              </a:rPr>
              <a:t>Waterval van gevoelens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56000" y="3141720"/>
            <a:ext cx="6300720" cy="3289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164360" y="60213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Arial"/>
              </a:rPr>
              <a:t>@klaproosj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969696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1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356000" y="3338640"/>
            <a:ext cx="4788000" cy="3519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189000"/>
            <a:ext cx="26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8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692280"/>
            <a:ext cx="410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Lucida Handwriting"/>
              </a:rPr>
              <a:t>van bevroren har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Lucida Handwriting"/>
              </a:rPr>
              <a:t>Ontdooid door lief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Lucida Handwriting"/>
              </a:rPr>
              <a:t>van de mede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350028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mensen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81360"/>
            <a:ext cx="42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Lucida Handwriting"/>
              </a:rPr>
              <a:t>in al hun kwetsbaar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Lucida Handwriting"/>
              </a:rPr>
              <a:t>er is geen haat, er is niet langer nijd</a:t>
            </a:r>
            <a:r>
              <a:rPr b="1" lang="nl-BE" sz="2000" spc="-1" strike="noStrike">
                <a:solidFill>
                  <a:srgbClr val="808080"/>
                </a:solidFill>
                <a:latin typeface="Lucida Handwriting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86d1e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97800" cy="4462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32000" y="476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1268280"/>
            <a:ext cx="0" cy="35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637000"/>
            <a:ext cx="0" cy="21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72360" y="1268280"/>
            <a:ext cx="0" cy="35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388360" y="2636640"/>
            <a:ext cx="0" cy="21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869000"/>
            <a:ext cx="914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Er is geen pijn meer, geen verdr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Alleen maar mensen die elkander he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Niemand heeft dan nog zor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Eens, ja eens, zijn we veilig en geborgen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000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50000">
              <a:srgbClr val="ffff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207280" cy="5183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33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c6600"/>
                </a:solidFill>
                <a:latin typeface="Lucida Handwriting"/>
              </a:rPr>
              <a:t>Ik droom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60280"/>
            <a:ext cx="8497800" cy="5616720"/>
          </a:xfrm>
          <a:prstGeom prst="rect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4076640"/>
            <a:ext cx="813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mijn eigen d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Eens wordt het werkelijk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Eens is die waterval van gevoele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Geen droom meer, maar realite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400"/>
                            </p:stCondLst>
                            <p:childTnLst>
                              <p:par>
                                <p:cTn id="5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400"/>
                            </p:stCondLst>
                            <p:childTnLst>
                              <p:par>
                                <p:cTn id="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400"/>
                            </p:stCondLst>
                            <p:childTnLst>
                              <p:par>
                                <p:cTn id="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400"/>
                            </p:stCondLst>
                            <p:childTnLst>
                              <p:par>
                                <p:cTn id="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240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400"/>
                            </p:stCondLst>
                            <p:childTnLst>
                              <p:par>
                                <p:cTn id="59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5c984"/>
            </a:gs>
            <a:gs pos="50000">
              <a:srgbClr val="ffff99"/>
            </a:gs>
            <a:gs pos="100000">
              <a:srgbClr val="45c98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260280"/>
            <a:ext cx="5833800" cy="4897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1125360"/>
            <a:ext cx="2592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een mooie waterv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Een waterval van gevoele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Gevoelens van warmte, liefde, teder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580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begrip, vriendschap en verdraagzaam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32000" y="407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b46d0"/>
            </a:gs>
            <a:gs pos="50000">
              <a:srgbClr val="ff99cc"/>
            </a:gs>
            <a:gs pos="100000">
              <a:srgbClr val="7b46d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6324480" cy="4321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71640" y="98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76280"/>
            <a:ext cx="21956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van vrede, ov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Voor alle mense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voor ons allema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Huidskleur maakt dan geen versch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661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Anders zijn dat mag, ‘t is wat ik graag w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33360"/>
            <a:ext cx="6337080" cy="4319640"/>
          </a:xfrm>
          <a:prstGeom prst="rect">
            <a:avLst/>
          </a:prstGeom>
          <a:noFill/>
          <a:ln w="31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60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4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2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50000">
              <a:srgbClr val="ccecff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35280" cy="302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4535640" cy="302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003640" y="260280"/>
            <a:ext cx="0" cy="2952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3213000"/>
            <a:ext cx="3816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500280"/>
            <a:ext cx="3816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500280"/>
            <a:ext cx="1440" cy="3024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2565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80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836640"/>
            <a:ext cx="35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van die witte du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Er is geen oorlog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geen gew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508640"/>
            <a:ext cx="3600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Mensen spreken ieder een andere ta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Maar verstaan elkander toch,</a:t>
            </a: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5950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80"/>
                </a:solidFill>
                <a:latin typeface="Lucida Handwriting"/>
              </a:rPr>
              <a:t>Ja allemaa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50000">
              <a:srgbClr val="45c984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35640" cy="597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11280" y="836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Handwriting"/>
              </a:rPr>
              <a:t>Ik droo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68280"/>
            <a:ext cx="2340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een bloemenwe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een kristalhelder beek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3213000"/>
            <a:ext cx="22669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lekker liggen in de z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Als dat eens waar w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als dat eens k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b46d0"/>
            </a:gs>
            <a:gs pos="50000">
              <a:srgbClr val="86d1ec"/>
            </a:gs>
            <a:gs pos="100000">
              <a:srgbClr val="7b46d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192720" cy="46623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147840" cy="46814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492360" y="476280"/>
            <a:ext cx="3049560" cy="468144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588000" y="981000"/>
            <a:ext cx="2556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Van mens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dik of d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Zwart of wi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groot of kl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Rood, geel, bru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Slim of 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80"/>
                </a:solidFill>
                <a:latin typeface="Lucida Handwriting"/>
              </a:rPr>
              <a:t>Dat is de buitenkant, daar gaat ‘t toch niet om ?</a:t>
            </a: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549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100000">
              <a:srgbClr val="86d1e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362480" cy="5715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2268360" y="54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Ik droo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5000"/>
            <a:ext cx="19796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een prachtige waterv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de berge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een lieflijk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1773360"/>
            <a:ext cx="21956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Van humor en van teder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Er is geen ang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geen vre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8000"/>
                </a:solidFill>
                <a:latin typeface="Lucida Handwriting"/>
              </a:rPr>
              <a:t>Dat is verleden tij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927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4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600"/>
                            </p:stCondLst>
                            <p:childTnLst>
                              <p:par>
                                <p:cTn id="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80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8600"/>
                            </p:stCondLst>
                            <p:childTnLst>
                              <p:par>
                                <p:cTn id="2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2400"/>
                            </p:stCondLst>
                            <p:childTnLst>
                              <p:par>
                                <p:cTn id="2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6769080" cy="4702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68360" y="234936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181080" y="333360"/>
            <a:ext cx="2089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Lucida Handwriting"/>
              </a:rPr>
              <a:t>Van lief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Lucida Handwriting"/>
              </a:rPr>
              <a:t>Licht en energ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Lucida Handwriting"/>
              </a:rPr>
              <a:t>En van de pijn verz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Lucida Handwriting"/>
              </a:rPr>
              <a:t>Niemand hoeft nog bang te wez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189000"/>
            <a:ext cx="7056720" cy="48956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8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Lucida Handwriting"/>
              </a:rPr>
              <a:t>Ik droom van mensen die genez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80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40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8400"/>
                            </p:stCondLst>
                            <p:childTnLst>
                              <p:par>
                                <p:cTn id="3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40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86d1e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6697440" cy="4981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1413000"/>
            <a:ext cx="338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4221000"/>
            <a:ext cx="0" cy="2376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89000"/>
            <a:ext cx="9144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smeltende sneeu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Langzaam verwarmd door de zon</a:t>
            </a:r>
            <a:r>
              <a:rPr b="0" lang="nl-BE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184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80"/>
                </a:solidFill>
                <a:latin typeface="Lucida Handwriting"/>
              </a:rPr>
              <a:t>Ik droom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1484280"/>
            <a:ext cx="26636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grenz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d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erdwij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V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mens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geen p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me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Lucida Handwriting"/>
              </a:rPr>
              <a:t>l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4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2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2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2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2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12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22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3200"/>
                            </p:stCondLst>
                            <p:childTnLst>
                              <p:par>
                                <p:cTn id="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42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200"/>
                            </p:stCondLst>
                            <p:childTnLst>
                              <p:par>
                                <p:cTn id="4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8:48:29Z</dcterms:created>
  <dc:creator>cecile</dc:creator>
  <dc:description/>
  <dc:language>en-US</dc:language>
  <cp:lastModifiedBy>Smets</cp:lastModifiedBy>
  <dcterms:modified xsi:type="dcterms:W3CDTF">2011-10-22T04:48:24Z</dcterms:modified>
  <cp:revision>56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