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24B-B1DD-4467-B39C-D284DB43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686-D97D-477C-911C-6C17152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F93-A13E-487A-BA9B-CB64FE53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C41-2099-49C6-928B-AD1C1294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8C7-6C3C-4DE8-A030-12A886D6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FB4-FE47-4997-84DF-A3745DC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A68-0C64-4039-A669-C9C487F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B5E-BC78-4F1B-B03A-6D43DE7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F4E-6C9D-43E6-86D4-DF707643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7F9-F986-42AB-AFAA-81245C1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9BE-2C51-4BBA-899B-C1A1A26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230-0CF4-47E2-AAB1-F26BE58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9AAFA-F0D4-4D4A-B456-6F70E2B511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EA0E2-60D7-447B-A5C5-881AADED6C5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7:10Z</dcterms:created>
  <dc:creator>최봉수</dc:creator>
  <dc:description/>
  <dc:language>en-US</dc:language>
  <cp:lastModifiedBy>맛있다 군만두</cp:lastModifiedBy>
  <dcterms:modified xsi:type="dcterms:W3CDTF">2023-07-13T11:06:06Z</dcterms:modified>
  <cp:revision>3</cp:revision>
  <dc:subject/>
  <dc:title>슬라이드 1</dc:title>
</cp:coreProperties>
</file>