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85FF-5A99-43E3-A322-E0102D6D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A336-8EA8-4117-B31A-46514BC3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BC6B-8138-4F4C-B2B1-51B7228A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6FFF-E945-4D55-ABA6-88EF4CF8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7F37-8131-450E-8323-CE49A495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6611-A8F9-43E8-B789-D9EC37DA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E567-E0AB-4C1B-94BA-5EA455C0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88AE-E41F-4B31-9864-AC961226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029C-2985-4EA3-8CE8-99580A76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F705-5B84-4AAA-BDF4-0359F831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67AA-262C-414F-98BC-B30A61F2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53F7-A3D6-465D-8657-52948423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8F400A-739F-4462-807E-CF251F7F783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5B32AC-5213-4365-8DD6-2D27EDDCE675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8:27:10Z</dcterms:created>
  <dc:creator>최봉수</dc:creator>
  <dc:description/>
  <dc:language>en-US</dc:language>
  <cp:lastModifiedBy>맛있다 군만두</cp:lastModifiedBy>
  <dcterms:modified xsi:type="dcterms:W3CDTF">2023-07-13T11:06:06Z</dcterms:modified>
  <cp:revision>3</cp:revision>
  <dc:subject/>
  <dc:title>슬라이드 1</dc:title>
</cp:coreProperties>
</file>