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7166-813F-44B0-9A9D-6D51E5F7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45FA-8976-49DD-975D-69007991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3F04-AA00-463C-ABDF-A7B32A810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A3D0-2C75-452B-954D-69CD5BEF9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3D14-86B4-487E-8F29-CA9B84A3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5C03-AA44-475B-8603-B73D13A4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6C73-4B0E-4218-AD12-616EA6EA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FE46-4D21-42A3-9BE1-8ED207F5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4219-38C6-4D59-8B68-766FA012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9B38-6868-46AA-8D27-B72A6348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64DE-7638-44E0-ABB1-E90C7E91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26C3-DBAA-4935-9DA7-DFC54C65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DF02-FD56-4169-B608-B56D7CBB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1B15-F94D-40F8-95DF-F008A77F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31B4-E202-41FC-A460-6D4ACB49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3E6E-FEDB-40D0-A42E-18438727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29FF-C8A8-49F9-AF5E-C6696AAE5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96B5-6D24-4F69-B350-CF1B3DDA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47AD-9BAD-4884-9E95-1C70E6E6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6023-50FE-442E-98E1-6648A591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1481-0AB0-499A-84FC-BE3AC02C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DFF0-6D79-4CB4-AB1A-0FD93FC5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2DD8-905B-4877-BD74-4DE2031C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2A76-D7A9-44C6-87BF-AF07BA38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6AFB-C43D-41BB-806D-1C8FF2B6EA0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276D-255A-4401-9462-C1AC2BCFDAE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042.Rathotsavam in Prasanthi Nilayam </a:t>
            </a:r>
            <a:br>
              <a:rPr sz="3200"/>
            </a:b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18</a:t>
            </a:r>
            <a:r>
              <a:rPr b="1" lang="en-US" sz="3200" spc="-1" strike="noStrike" baseline="30000">
                <a:solidFill>
                  <a:srgbClr val="ccecff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Nov 2009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 rot="21051000">
            <a:off x="1434600" y="1599840"/>
            <a:ext cx="6400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um Jai Sai Ram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 rot="21102000">
            <a:off x="842760" y="3580920"/>
            <a:ext cx="7457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y Humble and Heartfelt Pranams at the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ivine Lotus Feet of Beloved Swami.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120600"/>
            <a:ext cx="9144000" cy="66168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ove emerges from peace. One who lacks peac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nnot have love. When love manifests in us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 consider everyone as our own. All are our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wn forms. All are one. Be alike to everyone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ke efforts to realise this truth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5000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6074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20600"/>
            <a:ext cx="9144000" cy="6616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6074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31760"/>
            <a:ext cx="9144000" cy="6594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607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120600"/>
            <a:ext cx="9144000" cy="6616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20600"/>
            <a:ext cx="9144000" cy="66168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m Dhamodharaya Vidhmah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Rukmani Vallabhay Dheemah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Thanno Krishna Prachodayath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m Narayanaya Vidhmah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Vasudevaya Dheemah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Thanno Vishnu Prachodayath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5000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selfish person is worse than a fish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sh is better than selfish. Therefore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ver give room to selfishness. You ca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alise the Self only when you give up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fishness. When you become a slav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 your senses, you will always remai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fish. Therefore, give up selfishness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lp everyon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5000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5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120600"/>
            <a:ext cx="9144000" cy="6616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120600"/>
            <a:ext cx="9144000" cy="66168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120600"/>
            <a:ext cx="9144000" cy="66168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120600"/>
            <a:ext cx="9144000" cy="66168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607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armanye vadhikaraste ma phaleshu kadachna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armaphalehtur bhurma te sangostvakarmani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English translation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ou have a right to perform your prescribed duty, but you are not entitled to the fruits of action</a:t>
            </a:r>
            <a:r>
              <a:rPr b="1" lang="hi-IN" sz="2800" spc="-1" strike="noStrike">
                <a:solidFill>
                  <a:srgbClr val="ffffff"/>
                </a:solidFill>
                <a:latin typeface="Times New Roman"/>
              </a:rPr>
              <a:t>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ver consider yourself the cause of the results of your activities, and never be attached to not doing your dut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5000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NE CANNOT ALWAYS OBLIGE –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UT CAN ALWAYS SPEAK OBLINGLY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EAK LESS – ACT MORE -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NLY IN DEPTH OF SILENCE ON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N HEAR THE VOICE OF THE GO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m Jai Sai Ram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6000"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75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5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350"/>
                            </p:stCondLst>
                            <p:childTnLst>
                              <p:par>
                                <p:cTn id="1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150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120600"/>
            <a:ext cx="9144000" cy="6616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607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31760"/>
            <a:ext cx="9144000" cy="6594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136440"/>
            <a:ext cx="9144000" cy="65851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120600"/>
            <a:ext cx="9144000" cy="66168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120600"/>
            <a:ext cx="9144000" cy="66168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01:08:22Z</dcterms:created>
  <dc:creator>user</dc:creator>
  <dc:description/>
  <dc:language>en-US</dc:language>
  <cp:lastModifiedBy>user</cp:lastModifiedBy>
  <dcterms:modified xsi:type="dcterms:W3CDTF">2009-11-20T15:51:46Z</dcterms:modified>
  <cp:revision>5</cp:revision>
  <dc:subject/>
  <dc:title>042.Rathotsavam in Prasanthi Nilayam  18th Nov 2009</dc:title>
</cp:coreProperties>
</file>