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FE2-D0FF-49EE-8673-56C2AF7F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F6C-FF1A-4B94-BD44-8C609307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487-65E1-4C13-BF5E-1A7262F2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2D4-ECB5-49C6-A0C7-4C1B9D91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1752-30FE-4D4A-A341-144B417C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ACDA-90FB-4711-A6BC-F0AABE64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596D-B73F-4A6C-8034-B9613D6B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4956-59C2-44BD-ADC0-712A32FB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4A97-4391-44DC-9895-3B7CED21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DF16-0628-4CD3-B2DC-D9DDE7E3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690A-263D-4C5F-A12A-DE73C29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CA9-FDD5-4F4B-8157-C20CDC60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C244-B843-46A7-8555-0F2CAB7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384C-75A5-4C64-8100-895D1E37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990F-7F98-41BD-8A9B-55D1BFEB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3908-FB9D-4660-8ED3-166F3F71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068E-E3DA-4328-BE1B-47E4D9D0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0E0-3134-44FB-9504-E94AB649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064-4909-4B31-B82E-71A8E830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665-53CF-4725-B238-2FEB4283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F0E-C229-4E5A-A1AC-15631D20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DF2-B8BC-4D3B-AD75-7F957E1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A02-9089-43FD-A729-A98AAC6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534-0DD2-4A9E-A6F1-BEEDF7F2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C7DF-5D4C-41E2-809D-48F4C2C0BD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AC75-78C1-44E7-AED8-2330EABFD8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042.Rathotsavam in Prasanthi Nilayam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18</a:t>
            </a:r>
            <a:r>
              <a:rPr b="1" lang="en-US" sz="3200" spc="-1" strike="noStrike" baseline="30000">
                <a:solidFill>
                  <a:srgbClr val="ccec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Nov 2009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21051000">
            <a:off x="1434600" y="1599840"/>
            <a:ext cx="6400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m Jai Sai Ram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 rot="21102000">
            <a:off x="842760" y="3580920"/>
            <a:ext cx="7457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Humble and Heartfelt Pranams at t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vine Lotus Feet of Beloved Swami.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ve emerges from peace. One who lacks pea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not have love. When love manifests in us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consider everyone as our own. All are ou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wn forms. All are one. Be alike to everyon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e efforts to realise this trut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31760"/>
            <a:ext cx="9144000" cy="659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m Dhamodharaya Vidhma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Rukmani Vallabhay Dheema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Thanno Krishna Prachodayat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m Narayanaya Vidhma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Vasudevaya Dheema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Thanno Vishnu Prachodayat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selfish person is worse than a fish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sh is better than selfish. Therefor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er give room to selfishness. You ca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lise the Self only when you give up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ishness. When you become a slav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your senses, you will always remai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ish. Therefore, give up selfishnes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p everyon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manye vadhikaraste ma phaleshu kadachn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maphalehtur bhurma te sangostvakarmani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English translation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have a right to perform your prescribed duty, but you are not entitled to the fruits of action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</a:rPr>
              <a:t>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er consider yourself the cause of the results of your activities, and never be attached to not doing your du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CANNOT ALWAYS OBLIGE –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 CAN ALWAYS SPEAK OBLING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AK LESS – ACT MORE -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LY IN DEPTH OF SILENCE ON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HEAR THE VOICE OF THE GO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m Jai Sai Ra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6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5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5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35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31760"/>
            <a:ext cx="9144000" cy="659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1:08:22Z</dcterms:created>
  <dc:creator>user</dc:creator>
  <dc:description/>
  <dc:language>en-US</dc:language>
  <cp:lastModifiedBy>user</cp:lastModifiedBy>
  <dcterms:modified xsi:type="dcterms:W3CDTF">2009-11-20T15:51:46Z</dcterms:modified>
  <cp:revision>5</cp:revision>
  <dc:subject/>
  <dc:title>042.Rathotsavam in Prasanthi Nilayam  18th Nov 2009</dc:title>
</cp:coreProperties>
</file>