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D429-B07E-4810-899B-593760D33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EC85-BA94-4846-8960-12A80FE6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0C44-C9E9-4A75-99A7-1C80EE5C2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AC67-8425-443F-87F8-38FFB9F77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4665-649A-4471-AECD-D90C81787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525A-B365-4F2F-9B87-BD5D07D7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3EC9-101C-45BC-A81F-4FE4DAD6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AB66-99DA-47E9-82F1-3B9EF8F2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71FE-EA86-4B24-8F2F-1FB2A5AC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B21D-0748-492E-B765-AB146E52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E4B1-7382-4377-8DEA-E3ABFB57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2582-C911-4746-9419-0F1C92CB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EC54-8306-49E2-B009-079914AC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8020-AA1C-4FCE-97CF-BAC3AD37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609F-1EC6-49BE-BA9A-CFD0C7D0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03DB-C667-47D7-8901-079BE2B62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CC3B-539F-4F67-9A5D-E15BF6A4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40F6-8EB3-481C-9EFA-97EE5855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87B9-2764-4E10-91AC-8911965D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61EE-5D14-46FB-B87A-A36F2F4A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0458-4383-45D9-9E34-79AB6A5D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18BE-5157-4674-86EA-2323EEC9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074A-AD02-4761-90DB-9CCEE16E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D7A7-D46C-4D43-BB91-0DB0303E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251F-A419-46A6-9730-2305E399DC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5202-0888-498B-99B7-72352051E2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533520" y="4038480"/>
            <a:ext cx="807696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cf600"/>
                    </a:gs>
                    <a:gs pos="100000">
                      <a:srgbClr val="f6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ANK FARM FIR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cf600"/>
                  </a:gs>
                  <a:gs pos="100000">
                    <a:srgbClr val="f6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82520" y="1066680"/>
            <a:ext cx="69343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OVERFLOW + IGNITIO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=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6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304920" y="14475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ferring flammable liquids is always a risk with potentially significant consequences. Monitor transfers closely so you can detect and respond to spills and leaks early!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ver drive into a flammable cloud! Vehicles can provide ignition sources—such as a hot engine manifold or muffler. These are often well above the auto-ignition temperature of many flammables. Remember, if a cloud is ignited by the vehicle you are driving, you will have a front row seat and be the center of the explo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every report of an unusual occurrence or odor seriously and respond quickly and thorough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609480"/>
            <a:ext cx="4343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Rounded MT Bold"/>
              </a:rPr>
              <a:t>What You Can D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0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317160" y="1600200"/>
            <a:ext cx="85345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NOT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 Rounded MT Bold"/>
              </a:rPr>
              <a:t>If the engine of the vehicle you are driving begins to rev up on its own, shut it down and get out immediately. You may have driven into a flammable atmosphe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2362320"/>
            <a:ext cx="8534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WHENEVER FLAMMABLES ARE RELEASED, A FIRE IS JUST A SPARK AWAY!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362320"/>
            <a:ext cx="8534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OH, and where is that Pickup Truck the guys used to find out what that smell was…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4724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What Happen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39672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Rounded MT Bold"/>
              </a:rPr>
              <a:t>Late one evening, a large storage tank containing a flammable liquid began to overflow. It was not detected until a security guard noticed a strong odor. He immediately called the area operations personnel to report his concern. Two operators responded by driving a truck to the area to investigate.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1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72520" y="1981080"/>
            <a:ext cx="8610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Within minutes, there was a loud explosion and fire. (It is believed that their truck provided the ignition source that caused the initial deflagration and ensuing fires.) It took plant and civic personnel a day and a half to extinguish the fires which moved from one tank to the next. More than a dozen employees were hospitalized and there was significant property dam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52280" y="30456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What Happened?</a:t>
            </a:r>
            <a:r>
              <a:rPr b="0" lang="en-US" sz="44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(Cont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4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2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4343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Rounded MT Bold"/>
              </a:rPr>
              <a:t>How Did it Star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00160" y="1831680"/>
            <a:ext cx="86868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The tank was being filled but the operators did not know that the automatic tank gauging system </a:t>
            </a:r>
            <a:r>
              <a:rPr b="1" i="1" lang="en-US" sz="3600" spc="-1" strike="noStrike">
                <a:solidFill>
                  <a:srgbClr val="ff0000"/>
                </a:solidFill>
                <a:latin typeface="Arial Rounded MT Bold"/>
              </a:rPr>
              <a:t>AND</a:t>
            </a:r>
            <a:r>
              <a:rPr b="1" i="1" lang="en-US" sz="36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the high level alarm system had failed. They did not monitor the filling operation closely because they believed that the tank still had plenty of capacity remaining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28600" y="220968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And, they did not take the security guard seriously or respond promptly when he reported the strong odor since he was new on the job. Like most significant events, a number of things “failed” all at the same ti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609480"/>
            <a:ext cx="4343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Rounded MT Bold"/>
              </a:rPr>
              <a:t>How Did it Star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8T06:44:46Z</dcterms:created>
  <dc:creator>abusah0a</dc:creator>
  <dc:description/>
  <dc:language>en-US</dc:language>
  <cp:lastModifiedBy>suresh.pandian</cp:lastModifiedBy>
  <dcterms:modified xsi:type="dcterms:W3CDTF">2007-11-06T13:55:27Z</dcterms:modified>
  <cp:revision>12</cp:revision>
  <dc:subject/>
  <dc:title>TANK FARM FI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27738954</vt:r8>
  </property>
  <property fmtid="{D5CDD505-2E9C-101B-9397-08002B2CF9AE}" pid="3" name="_AuthorEmail">
    <vt:lpwstr>PBell@zadco.ae</vt:lpwstr>
  </property>
  <property fmtid="{D5CDD505-2E9C-101B-9397-08002B2CF9AE}" pid="4" name="_AuthorEmailDisplayName">
    <vt:lpwstr>Paul Bell (ZADCO FIT)</vt:lpwstr>
  </property>
  <property fmtid="{D5CDD505-2E9C-101B-9397-08002B2CF9AE}" pid="5" name="_EmailSubject">
    <vt:lpwstr/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