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A75-8E28-4E67-9598-C7D7D1E3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5A1-9148-4BC9-9E02-6376871A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7AA-B605-4E0C-BE07-87946D78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F07-8412-44D5-A447-2545A12B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C639-A243-4DA4-B47C-160C33D3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16F7-75FA-4492-A610-396E1156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56EE-6A79-440B-BDAA-B331913C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3591-863F-42DC-85C6-D85DB10C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FEB3-D4E9-4CB4-A738-90160340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45DB-3776-4EBC-967C-5A1FBD3C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7C10-2F46-4898-BFC2-B74A7B18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12A-8010-4A00-B968-FB72211B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D4C6-721C-4F5E-879F-C28DE48E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0C1E-2393-4BBB-95DF-383F38B9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BB80-33A5-4450-A17C-2FDB6BAD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6130-4E13-4277-B8F6-207937F6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91C0-BC6E-4BC9-82A0-DD03D50B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D27-C03B-4451-B326-22761D59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01E-90E0-4C97-98C9-F271F34C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06A-695C-4AD3-BB11-F1662A95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C5B-9E83-40A4-8E88-2506DF94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192-9E03-44E4-874F-7D121503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61B-7E66-4BB3-89A7-B9384CC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7CE-2307-4C10-8171-11A6CC2F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C382-9A78-48BB-BCC2-8CA2142644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06B1-53D4-4651-B2A0-1CDE22AB96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3520" y="4038480"/>
            <a:ext cx="80769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cf600"/>
                    </a:gs>
                    <a:gs pos="100000">
                      <a:srgbClr val="f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NK FARM FI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cf600"/>
                  </a:gs>
                  <a:gs pos="100000">
                    <a:srgbClr val="f6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82520" y="10666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VERFLOW + IGNI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flammable liquids is always a risk with potentially significant consequences. Monitor transfers closely so you can detect and respond to spills and leaks early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drive into a flammable cloud! Vehicles can provide ignition sources—such as a hot engine manifold or muffler. These are often well above the auto-ignition temperature of many flammables. Remember, if a cloud is ignited by the vehicle you are driving, you will have a front row seat and be the center of the explo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every report of an unusual occurrence or odor seriously and respond quickly and thorough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What You Can 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1716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NO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Rounded MT Bold"/>
              </a:rPr>
              <a:t>If the engine of the vehicle you are driving begins to rev up on its own, shut it down and get out immediately. You may have driven into a flammable atmosphe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WHENEVER FLAMMABLES ARE RELEASED, A FIRE IS JUST A SPARK AWAY!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OH, and where is that Pickup Truck the guys used to find out what that smell was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What Happe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9672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Rounded MT Bold"/>
              </a:rPr>
              <a:t>Late one evening, a large storage tank containing a flammable liquid began to overflow. It was not detected until a security guard noticed a strong odor. He immediately called the area operations personnel to report his concern. Two operators responded by driving a truck to the area to investigate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72520" y="1981080"/>
            <a:ext cx="8610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ithin minutes, there was a loud explosion and fire. (It is believed that their truck provided the ignition source that caused the initial deflagration and ensuing fires.) It took plant and civic personnel a day and a half to extinguish the fires which moved from one tank to the next. More than a dozen employees were hospitalized and there was significant property da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52280" y="3045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What Happened?</a:t>
            </a: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How Did it Sta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00160" y="1831680"/>
            <a:ext cx="86868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tank was being filled but the operators did not know that the automatic tank gauging system </a:t>
            </a:r>
            <a:r>
              <a:rPr b="1" i="1" lang="en-US" sz="3600" spc="-1" strike="noStrike">
                <a:solidFill>
                  <a:srgbClr val="ff0000"/>
                </a:solidFill>
                <a:latin typeface="Arial Rounded MT Bold"/>
              </a:rPr>
              <a:t>AND</a:t>
            </a:r>
            <a:r>
              <a:rPr b="1" i="1" lang="en-US" sz="3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e high level alarm system had failed. They did not monitor the filling operation closely because they believed that the tank still had plenty of capacity remain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nd, they did not take the security guard seriously or respond promptly when he reported the strong odor since he was new on the job. Like most significant events, a number of things “failed” all at the same tim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How Did it Sta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06:44:46Z</dcterms:created>
  <dc:creator>abusah0a</dc:creator>
  <dc:description/>
  <dc:language>en-US</dc:language>
  <cp:lastModifiedBy>suresh.pandian</cp:lastModifiedBy>
  <dcterms:modified xsi:type="dcterms:W3CDTF">2007-11-06T13:55:27Z</dcterms:modified>
  <cp:revision>12</cp:revision>
  <dc:subject/>
  <dc:title>TANK FARM F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7738954</vt:r8>
  </property>
  <property fmtid="{D5CDD505-2E9C-101B-9397-08002B2CF9AE}" pid="3" name="_AuthorEmail">
    <vt:lpwstr>PBell@zadco.ae</vt:lpwstr>
  </property>
  <property fmtid="{D5CDD505-2E9C-101B-9397-08002B2CF9AE}" pid="4" name="_AuthorEmailDisplayName">
    <vt:lpwstr>Paul Bell (ZADCO FIT)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