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B5B-FF4D-4B2C-B50C-3868CA0D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F28-8908-448D-B4A8-EC2E9AF5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0F8-A53B-4012-A66F-C5F22C43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B42-8C60-4A88-A328-6539C7EE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160-D57F-45BC-9B6D-D7E0AFE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F80-7F1E-475F-BE6D-8C8AAE48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12F-0AF3-4CCE-B761-6918C31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6A5-A941-4516-821E-186B5407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B5D-72D5-461E-AAE1-7ECE3915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FDC-4293-4D0B-8D3E-E941D69C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FC3-EEFC-4788-A082-84E5C2C7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ACD-D298-4F67-8220-6A33F34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23B1-5FAE-4709-8331-8D9A7B99C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938680" y="-29160"/>
            <a:ext cx="149389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رسوم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تخطيطي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لمراح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لإنقس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لإختزال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285840"/>
            <a:ext cx="7451640" cy="6527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84520" y="331920"/>
            <a:ext cx="158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هيو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1280" y="250920"/>
            <a:ext cx="1704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سيم 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6680" y="0"/>
            <a:ext cx="14731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7640" y="3603600"/>
            <a:ext cx="1204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641760"/>
            <a:ext cx="1150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03400"/>
            <a:ext cx="1547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2379600"/>
            <a:ext cx="773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ب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7040" y="6164280"/>
            <a:ext cx="960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غ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132600"/>
            <a:ext cx="36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تمهيد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7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6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3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8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52360" y="0"/>
            <a:ext cx="6732720" cy="6597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-27000"/>
            <a:ext cx="105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غ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41400" y="2709720"/>
            <a:ext cx="14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دث فيها عب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19840" y="2771640"/>
            <a:ext cx="12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ات ل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حدث فيها عب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4600" y="6265800"/>
            <a:ext cx="158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29360" y="6143760"/>
            <a:ext cx="3806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إستوائ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8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7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66800" y="71280"/>
            <a:ext cx="5857920" cy="659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97720" y="1812960"/>
            <a:ext cx="892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غ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11840" y="82440"/>
            <a:ext cx="1584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سيم 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66600" y="3141720"/>
            <a:ext cx="1971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بغ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ثنائي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62840" y="4863960"/>
            <a:ext cx="208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داية ظهو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ختن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6168960"/>
            <a:ext cx="3816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انفصال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734080"/>
            <a:ext cx="0" cy="112392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3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900"/>
                            </p:stCondLst>
                            <p:childTnLst>
                              <p:par>
                                <p:cTn id="1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7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77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87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65600" y="144360"/>
            <a:ext cx="4533840" cy="65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459640" y="0"/>
            <a:ext cx="0" cy="112392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7560" y="423720"/>
            <a:ext cx="162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سيم 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16840" y="1023840"/>
            <a:ext cx="1628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6200" y="3138480"/>
            <a:ext cx="1428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ختنـــ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089760"/>
            <a:ext cx="33483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نهائ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7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30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7080" y="333360"/>
            <a:ext cx="7344000" cy="5988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18440" y="257040"/>
            <a:ext cx="16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65560" y="257040"/>
            <a:ext cx="16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30760" y="3989520"/>
            <a:ext cx="166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66960" y="2178000"/>
            <a:ext cx="166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76880"/>
            <a:ext cx="38149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تمهيدي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3440" y="6154560"/>
            <a:ext cx="3851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استوائي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9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27000" y="41400"/>
            <a:ext cx="388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بغيات أحاديــ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4920" y="3800520"/>
            <a:ext cx="1424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7760" y="2946240"/>
            <a:ext cx="3529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</a:t>
            </a:r>
            <a:r>
              <a:rPr b="1" lang="fr-FR" sz="3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انفصالي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924280"/>
            <a:ext cx="4248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</a:t>
            </a:r>
            <a:r>
              <a:rPr b="1" lang="fr-FR" sz="4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نهائي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4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1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7:02:51Z</dcterms:created>
  <dc:creator>SOFIANE YAHIAOUI</dc:creator>
  <dc:description/>
  <dc:language>en-US</dc:language>
  <cp:lastModifiedBy>SOFIANE YAHIAOUI</cp:lastModifiedBy>
  <dcterms:modified xsi:type="dcterms:W3CDTF">2006-10-27T07:18:41Z</dcterms:modified>
  <cp:revision>2</cp:revision>
  <dc:subject/>
  <dc:title>Diapositive 1</dc:title>
</cp:coreProperties>
</file>