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CD0-6B9A-4155-BF21-F1931AFE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FA7-07FE-4E56-A6C7-C148FDFD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8AE-64EA-4636-AB62-1090BB20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9CF-258E-4A42-AE7B-73BE0DE0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E8C-D8EF-432B-8744-2BFE9D62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621-6B93-4BF4-B82E-85CA858F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CBE-F02F-457D-8E8F-917DD07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30B-E771-4358-AC86-6A9F9275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B68-590C-424C-971E-542F5D74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E39-D423-4E4C-A06A-4C3B184E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BF5-1BC5-4D8A-B87A-F75540C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2B5-1F89-41B3-A0D5-8BB12DA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E4A4-E91C-45D6-98F6-58B719C04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938680" y="-29160"/>
            <a:ext cx="149389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رسوم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تخطيطي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لمراح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الإنقس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ا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الإختزال</a:t>
            </a:r>
            <a:r>
              <a:rPr b="1" lang="ar-DZ" sz="8800" spc="-1" strike="noStrike">
                <a:solidFill>
                  <a:srgbClr val="333399"/>
                </a:solidFill>
                <a:latin typeface="Arial"/>
              </a:rPr>
              <a:t>ــــــــــــــــــــــــ</a:t>
            </a:r>
            <a:r>
              <a:rPr b="1" lang="ar-SA" sz="8800" spc="-1" strike="noStrike">
                <a:solidFill>
                  <a:srgbClr val="333399"/>
                </a:solidFill>
                <a:latin typeface="Arial"/>
              </a:rPr>
              <a:t>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285840"/>
            <a:ext cx="7451640" cy="6527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84520" y="331920"/>
            <a:ext cx="158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هيو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21280" y="250920"/>
            <a:ext cx="1704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سيم 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6680" y="0"/>
            <a:ext cx="14731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نو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67640" y="3603600"/>
            <a:ext cx="1204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641760"/>
            <a:ext cx="1150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03400"/>
            <a:ext cx="1547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طعة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7920" y="2379600"/>
            <a:ext cx="773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ب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7040" y="6164280"/>
            <a:ext cx="960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غ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6132600"/>
            <a:ext cx="36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تمهيدي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7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6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3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8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52360" y="0"/>
            <a:ext cx="6732720" cy="6597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4000" y="-27000"/>
            <a:ext cx="105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غ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41400" y="2709720"/>
            <a:ext cx="14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دث فيها عب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19840" y="2771640"/>
            <a:ext cx="12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ات ل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حدث فيها عب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4600" y="6265800"/>
            <a:ext cx="1584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طعة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29360" y="6143760"/>
            <a:ext cx="3806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إستوائي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80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7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66800" y="71280"/>
            <a:ext cx="5857920" cy="659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497720" y="1812960"/>
            <a:ext cx="8920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غ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11840" y="82440"/>
            <a:ext cx="1584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سيم 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66600" y="3141720"/>
            <a:ext cx="1971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بغ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ثنائي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رومات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62840" y="4863960"/>
            <a:ext cx="208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داية ظهو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ختن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6168960"/>
            <a:ext cx="3816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انفصالي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734080"/>
            <a:ext cx="0" cy="112392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30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70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900"/>
                            </p:stCondLst>
                            <p:childTnLst>
                              <p:par>
                                <p:cTn id="1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7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77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87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65600" y="144360"/>
            <a:ext cx="4533840" cy="659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459640" y="0"/>
            <a:ext cx="0" cy="112392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7560" y="423720"/>
            <a:ext cx="162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سيم 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16840" y="1023840"/>
            <a:ext cx="1628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نو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6200" y="3138480"/>
            <a:ext cx="1428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ختنـــ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089760"/>
            <a:ext cx="33483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نهائي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7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30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7080" y="333360"/>
            <a:ext cx="7344000" cy="5988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18440" y="257040"/>
            <a:ext cx="1662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طعة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65560" y="257040"/>
            <a:ext cx="1662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طعة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30760" y="3989520"/>
            <a:ext cx="1662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نو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66960" y="2178000"/>
            <a:ext cx="1662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وماتيدت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6176880"/>
            <a:ext cx="38149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تمهيدي الثا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3440" y="6154560"/>
            <a:ext cx="38512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 الاستوائي الثا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90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900"/>
                            </p:stCondLst>
                            <p:childTnLst>
                              <p:par>
                                <p:cTn id="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6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27000" y="41400"/>
            <a:ext cx="388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بغيات أحاديــ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رومات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4920" y="3800520"/>
            <a:ext cx="1424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شاء نو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7760" y="2946240"/>
            <a:ext cx="3529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</a:t>
            </a:r>
            <a:r>
              <a:rPr b="1" lang="fr-FR" sz="3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انفصالي الث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2924280"/>
            <a:ext cx="4248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دور</a:t>
            </a:r>
            <a:r>
              <a:rPr b="1" lang="fr-FR" sz="4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نهائي الثا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400"/>
                            </p:stCondLst>
                            <p:childTnLst>
                              <p:par>
                                <p:cTn id="2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10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7:02:51Z</dcterms:created>
  <dc:creator>SOFIANE YAHIAOUI</dc:creator>
  <dc:description/>
  <dc:language>en-US</dc:language>
  <cp:lastModifiedBy>SOFIANE YAHIAOUI</cp:lastModifiedBy>
  <dcterms:modified xsi:type="dcterms:W3CDTF">2006-10-27T07:18:41Z</dcterms:modified>
  <cp:revision>2</cp:revision>
  <dc:subject/>
  <dc:title>Diapositive 1</dc:title>
</cp:coreProperties>
</file>