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PFJX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C63-D194-46B3-8685-8FF12CE1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B2B-B5E6-4A79-9FCF-693885B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E65-0ED4-4501-85F6-0F349066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490-0D4B-44D8-BF3E-8FF1BC35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0F5A-9B3F-4513-AA49-5707FC3D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7C7-3D9D-44C0-A15B-CF45D53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9368-941D-497F-8689-EE45225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2F2-19D3-479A-8F64-9FD2B59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384-8A52-44B3-8716-70210D0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461C-1B89-461E-8336-5E5F939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8E00-C28A-485B-A6E6-6073260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93F-113F-4DD3-A232-16742D74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9FD-1224-47F4-89E6-AB75FDA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C9E0-7192-427C-9CF8-9AC25B2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74B-7A1E-4922-9F7F-78122677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6CF-34E5-454C-947C-C30FCE2F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F54-BC91-4AD0-BE3C-ED238FA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0D8-45E6-48F9-88BF-4B55B3F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B71-E97E-4E82-BD41-D2C8AE3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98B-5340-4DC0-A073-76F73473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238-6EDD-4624-96BA-28EC938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803-1484-4519-8154-6E7ECC3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815-BC59-440D-8F7C-F575305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579-777A-49B5-BEFD-66F6AD3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7F2-C23C-489C-B962-87B6D1D8159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8EAC-589B-4A3D-8CAB-CAAE05BB11B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FJXI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PerryGothic"/>
              </a:rPr>
              <a:t>    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</a:rPr>
              <a:t>Domestic viol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PerryGothic"/>
              </a:rPr>
              <a:t>  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09564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f8"/>
                </a:solidFill>
                <a:latin typeface="Old English Text MT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608720" cy="352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6800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268280"/>
            <a:ext cx="609624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047760" cy="218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40360" y="1052640"/>
            <a:ext cx="4257360" cy="34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248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113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321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71800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0034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6800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3024360" cy="417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03280" y="527364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56000" y="566100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92360" y="544500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4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40"/>
                            </p:stCondLst>
                            <p:childTnLst>
                              <p:par>
                                <p:cTn id="24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32764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4720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7:00:33Z</dcterms:created>
  <dc:creator>PERJOIS François</dc:creator>
  <dc:description/>
  <dc:language>en-US</dc:language>
  <cp:lastModifiedBy>Smets</cp:lastModifiedBy>
  <dcterms:modified xsi:type="dcterms:W3CDTF">2010-02-21T07:16:36Z</dcterms:modified>
  <cp:revision>62</cp:revision>
  <dc:subject/>
  <dc:title>Diapositive 1</dc:title>
</cp:coreProperties>
</file>