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PFJXI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8B6-4E9B-418F-9253-B8FBBE25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21F-2E53-41A3-AC42-AC25968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B7F-CA50-4746-850D-83467808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6E6-67D2-4752-85B3-0F62ACD4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E4D8-D2DF-4808-BBAB-0E8A9AE7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ED64-1647-4A15-AC60-D6AB52E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442C-2ECE-4F69-9397-C679AFBE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FF2-4F78-42E7-91CD-CF2C2899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53AA-B4BF-4BF2-89A9-82B52B17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4AEB-7134-482C-86F7-4B44BD31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AC4D-B5D7-4D2E-AEC6-903A576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0D5-AEFE-48DE-9E58-FE8E00E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2B63-B63A-440A-8592-82824633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A20E-B634-4069-9B03-CA4AED8A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31E9-5D93-4457-A333-CEB976C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EF2-B277-49BF-8122-AEFD3A74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2DEF-4581-4FDE-96D5-6E42254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973-781D-40EA-B5E4-5DFB8B38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A95-B084-45E4-9BB1-09EBF29B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441-8DCA-45A5-86C1-40B2FAB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829-7308-4083-9D6B-BCB454B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EDF-D440-498C-B276-06DA49F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DA9-A6E2-4B36-977B-250AA62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ED5-081C-498D-954E-018527F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487-C1D1-4AF7-B3C3-71E8BC613F4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608E-851E-45A1-A7AA-921A703EB8D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FJXI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PerryGothic"/>
              </a:rPr>
              <a:t>    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</a:rPr>
              <a:t>Domestic viol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PerryGothic"/>
              </a:rPr>
              <a:t>  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09564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f8"/>
                </a:solidFill>
                <a:latin typeface="Old English Text MT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608720" cy="352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6800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268280"/>
            <a:ext cx="609624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047760" cy="218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40360" y="1052640"/>
            <a:ext cx="4257360" cy="340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403280" y="422100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248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1130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3210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718000" cy="35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30034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6800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3024360" cy="417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03280" y="527364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56000" y="566100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92360" y="5445000"/>
            <a:ext cx="5952960" cy="2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4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40"/>
                            </p:stCondLst>
                            <p:childTnLst>
                              <p:par>
                                <p:cTn id="24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184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32764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47200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7:00:33Z</dcterms:created>
  <dc:creator>PERJOIS François</dc:creator>
  <dc:description/>
  <dc:language>en-US</dc:language>
  <cp:lastModifiedBy>Smets</cp:lastModifiedBy>
  <dcterms:modified xsi:type="dcterms:W3CDTF">2010-02-21T07:16:36Z</dcterms:modified>
  <cp:revision>62</cp:revision>
  <dc:subject/>
  <dc:title>Diapositive 1</dc:title>
</cp:coreProperties>
</file>